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195" spc="-1" strike="noStrike">
                <a:solidFill>
                  <a:srgbClr val="000000"/>
                </a:solidFill>
                <a:latin typeface="Arial"/>
              </a:defRPr>
            </a:pPr>
            <a:r>
              <a:rPr b="0" sz="2195" spc="-1" strike="noStrike">
                <a:solidFill>
                  <a:srgbClr val="000000"/>
                </a:solidFill>
                <a:latin typeface="Arial"/>
              </a:rPr>
              <a:t>Ezequiel Balbino</a:t>
            </a:r>
          </a:p>
        </c:rich>
      </c:tx>
      <c:layout>
        <c:manualLayout>
          <c:xMode val="edge"/>
          <c:yMode val="edge"/>
          <c:x val="0.387066503467972"/>
          <c:y val="0.020109993889228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10403916769"/>
          <c:y val="0.12065996333537"/>
          <c:w val="0.751203590371277"/>
          <c:h val="0.8391756013554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Ezequiel Balbino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2009 março</c:v>
                </c:pt>
                <c:pt idx="1">
                  <c:v>2009 abril</c:v>
                </c:pt>
                <c:pt idx="2">
                  <c:v>2009 maio</c:v>
                </c:pt>
                <c:pt idx="3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6.96</c:v>
                </c:pt>
                <c:pt idx="1">
                  <c:v>30.83</c:v>
                </c:pt>
                <c:pt idx="2">
                  <c:v>91.41</c:v>
                </c:pt>
                <c:pt idx="3">
                  <c:v>97.5</c:v>
                </c:pt>
              </c:numCache>
            </c:numRef>
          </c:val>
        </c:ser>
        <c:gapWidth val="100"/>
        <c:overlap val="0"/>
        <c:axId val="82563633"/>
        <c:axId val="19386440"/>
      </c:barChart>
      <c:catAx>
        <c:axId val="8256363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86440"/>
        <c:crossesAt val="0"/>
        <c:auto val="1"/>
        <c:lblAlgn val="ctr"/>
        <c:lblOffset val="100"/>
        <c:noMultiLvlLbl val="0"/>
      </c:catAx>
      <c:valAx>
        <c:axId val="19386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6363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91228070175439"/>
          <c:y val="0.45530803844230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351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101" spc="-1" strike="noStrike">
                <a:solidFill>
                  <a:srgbClr val="000000"/>
                </a:solidFill>
                <a:latin typeface="Arial"/>
              </a:defRPr>
            </a:pPr>
            <a:r>
              <a:rPr b="0" sz="3101" spc="-1" strike="noStrike">
                <a:solidFill>
                  <a:srgbClr val="000000"/>
                </a:solidFill>
                <a:latin typeface="Arial"/>
              </a:rPr>
              <a:t>Ezequiel Balbino 2009</a:t>
            </a:r>
          </a:p>
        </c:rich>
      </c:tx>
      <c:layout>
        <c:manualLayout>
          <c:xMode val="edge"/>
          <c:yMode val="edge"/>
          <c:x val="0.291379586604711"/>
          <c:y val="0.019941717616136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87261656786"/>
          <c:y val="0.145763099251471"/>
          <c:w val="0.731333119692357"/>
          <c:h val="0.81429632592423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3</c:v>
                </c:pt>
                <c:pt idx="1">
                  <c:v>120</c:v>
                </c:pt>
                <c:pt idx="2">
                  <c:v>138</c:v>
                </c:pt>
                <c:pt idx="3">
                  <c:v>120</c:v>
                </c:pt>
                <c:pt idx="4">
                  <c:v>42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17</c:v>
                </c:pt>
                <c:pt idx="1">
                  <c:v>37</c:v>
                </c:pt>
                <c:pt idx="2">
                  <c:v>117</c:v>
                </c:pt>
                <c:pt idx="3">
                  <c:v>117</c:v>
                </c:pt>
                <c:pt idx="4">
                  <c:v>288</c:v>
                </c:pt>
              </c:numCache>
            </c:numRef>
          </c:val>
        </c:ser>
        <c:gapWidth val="100"/>
        <c:overlap val="0"/>
        <c:axId val="61091737"/>
        <c:axId val="92697595"/>
      </c:barChart>
      <c:catAx>
        <c:axId val="6109173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97595"/>
        <c:crossesAt val="0"/>
        <c:auto val="1"/>
        <c:lblAlgn val="ctr"/>
        <c:lblOffset val="100"/>
        <c:noMultiLvlLbl val="0"/>
      </c:catAx>
      <c:valAx>
        <c:axId val="92697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9173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71190514340651"/>
          <c:y val="0.40003428375521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90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299F-244B-43ED-A889-CD12A4F125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alunos na ste aula de Geografia com o professor Alessan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63E-B46F-41D1-8EBE-64807D24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E3C-82E5-4F88-9CFD-8821B27B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9E3-5D41-46BB-BEEE-02C19B8C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92E-CF6D-4DA2-842D-EA88D6B6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076F-5B92-419F-8AB8-CE302F3A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3ED8-EBC9-4EBF-8993-C6D3B8E3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F9EF-7A0E-4C0C-9654-79DD936C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48B8-077C-4A31-872D-5CE2BA28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207E-0956-44F4-BF39-672A4ABB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7876-D9F0-4D68-8BEF-A57EA04C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9BF8-C718-4E60-B4B7-E1C17C73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F03-FE7B-426F-9C32-758E6CA7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DE77-3EAC-43F7-969E-B72615E1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24BE-DB15-4C1F-A274-C31ED229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4F21-167B-4EAD-A947-E0C73B3D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B2B7-6AAC-4702-B087-70E3F9B7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E11D-E9D4-4994-B3A3-C3C0DA3E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5EE2-D285-4ADD-BD9F-6EF613F9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046-00B9-4C86-8F6B-11D27201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DF6-C700-499D-B02B-93D86247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1D6-CC5D-428F-B7A0-E2C3A774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939-4F00-40B3-8BAB-FBEC966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F6F-E52A-464A-AB2C-74ABC911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45F-7602-4B16-953A-77190B3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4007-AB24-46AB-AE4E-969339B03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B785-4F3E-429E-B96F-A8B2BF5A9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Projeto de agendamento da Escola Estadual Professor Ezequiel Balbino Vila Quebracho – AnauriLândia-M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esquisa na aula de Língua Estrangeira com a prof. Joan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Pesquisa na aula de Artes com o professor Emídi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1908000" y="1773360"/>
            <a:ext cx="13039560" cy="978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Pesquisa na aula de Língua Portuguesa com o prof. Atevald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RÁFICO DO 1º SEMESTRE DA STE DA ESCOLA EZEQUIEL BALBIN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60600" y="1676520"/>
          <a:ext cx="6021360" cy="4422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GRAFICO DE FREQUENCIA DA STE DA ESCOL A EZEQUIEL BALBIN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17680" y="1676520"/>
          <a:ext cx="6308640" cy="4422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esquisa na aula de Geografia com o Professor Alessandr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1981080" y="1413000"/>
            <a:ext cx="13039560" cy="87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esquisa na aula de Matemática com o Prof. Evert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1908000" y="1700280"/>
            <a:ext cx="13039560" cy="978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esquisa na aula de Ciências com o Prof. Bernardin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82803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rofessores fazendo o curso do Linux com o Prof. Eduard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207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b7e7ff"/>
                </a:solidFill>
                <a:latin typeface="Arial"/>
              </a:rPr>
              <a:t>Professores fazendo o curso do LINUX com o prof. Emídi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207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esquisa na aula de Língua Portuguesa com a prof. Mart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2:23:51Z</dcterms:created>
  <dc:creator>EMIDIO</dc:creator>
  <dc:description/>
  <dc:language>en-US</dc:language>
  <cp:lastModifiedBy>EMIDIO</cp:lastModifiedBy>
  <dcterms:modified xsi:type="dcterms:W3CDTF">2009-07-10T20:03:22Z</dcterms:modified>
  <cp:revision>4</cp:revision>
  <dc:subject/>
  <dc:title>Projeto de agendamento da Escola Estadual Professor Ezequiel Balbino</dc:title>
</cp:coreProperties>
</file>